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3.jpeg" ContentType="image/jpeg"/>
  <Override PartName="/ppt/media/image18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7.jpeg" ContentType="image/jpe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7D4D-5D98-4ED6-9E83-B01DB85AB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DF5B-3856-44E0-970D-0321E023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B2F6D0-88EA-485B-A96A-60CE0208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BB8944-B54C-4854-A49D-4D4A5D0F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CE9E17-7388-4E81-87D7-434F1D3D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125374-BBBA-4E65-87CA-547F7FBA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D21211-76CF-400A-A83D-560FAE8C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A6C7C5-D9FB-46CB-8F9D-0B459ACA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8F80CF-84A7-4562-A1FE-359A6AEC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C4CC7B-A4AE-4B05-B87E-4A2894C14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6E1F60-5DF5-4BA2-91A5-E0EA2C365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F80B-FDFD-4652-A959-7B684D458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676A-0A8D-4BEF-97A0-0F431ABEA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D61F-E5B0-4E03-AAD8-E29795AD6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C81F-323D-438D-9655-06B9301C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6021-2EF0-4466-82D6-48D1903B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E453-1728-412A-A424-2CD72472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C907-1C62-45CA-84FE-41E0378E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F9A4F-BBF7-4B4C-AEDD-9E039F3E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85DB6-9F63-4AC0-81E4-1F35F1D0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3322-D3C0-4DF5-BE98-DE67AD97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2B01-1A19-4B51-AB18-D4AF3953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2665-7DB9-4951-A51D-BE8AF342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7C16-C5B6-414E-9B11-F87F9C9D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8332-B6DB-406B-8E6D-CEBA17363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8E20-EFD1-43EF-AF6C-5A6D5258B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6FD56-B32F-4ED7-B185-BD80F9842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6787D-3344-446B-8A2B-22E85F0C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86E47-C114-433B-B97B-B1FCB3FD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A743C-B5C3-4DCA-8DF3-A3BB1E6A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7D0A3-3794-43D1-A634-2AB0729A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BB7A-5BAA-42E3-85D5-DD3264BF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E7DF3-0C41-4AAD-A73B-8A87F9EC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C555F-134E-4B99-B334-0A458EC6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A6745-E2A4-44EE-8906-C02D1287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D5A5B-7DF0-42A1-AE07-21827DE7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71254-B82B-4221-B2F3-D730F973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BE9AF-1CE9-456E-9FF0-5CA0CAB10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856D9-9247-418A-9BD4-C99DB82DF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165D7-1BBC-43FD-A86E-BF2E607B5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31E28-EF1E-4CD0-BCD0-4455D7CA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B0BE2-220E-4E93-B6C1-F697EF56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F6DF-0E2D-45F5-B8F1-39348F26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3112D-7A4C-48DB-B447-1651021A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C545F-E765-4B8E-987B-E01C42A5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20DDC-8772-4B6A-AA05-BF0B2475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6B18E-8FC2-40F5-B586-7A1A1EA7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2DBE2-0AA4-469B-9C8E-08567FF2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28178-CCDB-4C4E-90D7-D29F5C8B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AD947-80BC-403D-9F20-D04BFE38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F39F9-9A00-43E7-996E-21A78055F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9D3D9-1A18-4DCC-862F-FC3FF8BED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5057D-D144-4209-B087-4E9BC9D94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C4FF-9D33-4705-939E-ACB0AAEE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C60FC-8AF4-4D12-8788-49DA1E3F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5AD43-37DB-4C51-A258-DD69CDDB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A1525-9A8A-4A59-A564-3B04C5E9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8B2D4-3788-4F3D-B0A4-AFC0DBF3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0581B-57AC-4DD8-ABB9-EF802FA8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45AC0-5E44-4884-9FE7-674B74A2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BDE42-0B4E-42D4-A7B5-B79747C3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D50C6-A923-47C5-BC86-D7693F9D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1C0AE-BDDB-4D0D-8A40-8F01E725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85ABE-1E5F-43AA-9694-207EB0ADB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F501-8E06-4A4B-B247-5B50DFDF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E9990-FC68-496D-91EB-036104D7B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9598F-63D1-4F76-A0FB-CA162A43F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1FED3-03F3-4228-8329-A4E0EDC4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119EB-9CB7-42F2-996D-99505E81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BC5C8-8B18-4C7A-AF05-5C32B36A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DF661-668B-4045-88DF-D7818133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38194-0635-4516-90A5-553BD717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30D7E-0DA6-4199-83D0-BC65707D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3676E-1CF9-4518-A788-D2CA4BC8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7D6D9-A32F-4DAA-BBD7-933D2952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F3E5-EFF1-4B68-925F-B82E02E7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EC3F5-4157-42A3-9A24-16EA5661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432A3-C53E-4BB8-9510-A73202F20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64A33-CB43-4B98-9EB0-EBB2239EE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9D8BD-BBBC-4226-B1CD-7ED1E1BBE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D3650-4286-44D2-BF07-6C5F7B2D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002B8-73E0-44C7-931C-B75C5840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54EF6-3CED-4588-ACC9-2A33F172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D9DBE-78E9-4613-82EA-BDE90D11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5B604-E2E0-4B14-9A48-55C09C67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0D6F7-730C-483C-9D11-AB95587E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9502-A575-4A03-BEA3-08F4E21A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EBBD7-8044-47C3-857C-6745D65E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DFFBF-BFB4-4553-9EE5-BE62FAA3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07A71-DEF1-4DC0-A54E-FE177B30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D7184-A9A2-4B66-8DCC-F7D1BDB0B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B6A1E-1B49-4A5D-8D71-4CAE0333F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D94F8-D868-4DE1-B01D-0508D5D55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3422F-55A8-4546-AF85-83AF898D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80120-26C2-439D-A807-C6DF6ADA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49E98-4701-4FCD-AD5B-AD777C51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73D4F-D2FB-46E5-8645-84B739A0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B868-B85A-41B9-B187-0C43E4A4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3E1EA-7CED-4B0F-85AC-7542BBCF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CFEFE-AC65-4348-9933-3117FB7A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FBAAE-77BC-485C-8FA2-DB8E4171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09518-6910-4B34-ACAD-5AF3A6B3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F195E-F914-435A-9E6B-B06A3135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B32A4-27DB-4E0B-8793-DAF1EBB52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C5CD2-993B-4E33-BEA2-623170870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2D2FF7-8069-4E41-A020-54B1E58F5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6013DE-05F9-47C9-8CF6-C744D6DD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9F4CFD-1E78-4985-9189-FF0CD404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8B0A-9C84-4911-9300-BB227E673F2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" name="Text Box 7"/>
          <p:cNvSpPr/>
          <p:nvPr/>
        </p:nvSpPr>
        <p:spPr>
          <a:xfrm>
            <a:off x="446040" y="626256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Straight Connector 14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3" name="Straight Connector 14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B39E-F017-4409-8380-5524EC9400A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7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0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2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3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" name="Text Box 7"/>
          <p:cNvSpPr/>
          <p:nvPr/>
        </p:nvSpPr>
        <p:spPr>
          <a:xfrm>
            <a:off x="446040" y="626256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62A2-FB53-4C42-B18F-BB3E8A65FB3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Straight Connector 14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9" name="Straight Connector 14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3BD2-534C-4E63-98EE-C1FFC50D908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Straight Connector 14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93" name="Straight Connector 14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35DD-6614-4DAC-BDE8-953C5D70C5E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A937-7B52-4ECB-A770-7E1B39BFEBB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Straight Connector 14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8" name="Straight Connector 14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2289E-2AF6-469C-8A71-BED9CBE3589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10FA-C0FD-43B2-9C86-265679590C6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9A01-DDF3-4EC7-889A-C925886FC92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6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6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5"/>
          <p:cNvSpPr/>
          <p:nvPr/>
        </p:nvSpPr>
        <p:spPr>
          <a:xfrm>
            <a:off x="1066680" y="6245280"/>
            <a:ext cx="685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38e27"/>
                </a:solidFill>
                <a:latin typeface="Tahoma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2D8F-D821-4EA1-8FB4-18460EF19D47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HAPTER 11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DATA AND DATABASE ADMINISTRATION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990720" y="335232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70c0"/>
                </a:solidFill>
                <a:latin typeface="Franklin Gothic Book"/>
                <a:ea typeface="Times New Roman"/>
              </a:rPr>
              <a:t>Modern Database Management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70c0"/>
                </a:solidFill>
                <a:latin typeface="Franklin Gothic Book"/>
                <a:ea typeface="Times New Roman"/>
              </a:rPr>
              <a:t>11</a:t>
            </a:r>
            <a:r>
              <a:rPr b="1" i="1" lang="en-US" sz="2200" spc="-1" strike="noStrike" baseline="30000">
                <a:solidFill>
                  <a:srgbClr val="0070c0"/>
                </a:solidFill>
                <a:latin typeface="Franklin Gothic Book"/>
                <a:ea typeface="Times New Roman"/>
              </a:rPr>
              <a:t>th</a:t>
            </a:r>
            <a:r>
              <a:rPr b="1" i="1" lang="en-US" sz="2200" spc="-1" strike="noStrike">
                <a:solidFill>
                  <a:srgbClr val="0070c0"/>
                </a:solidFill>
                <a:latin typeface="Franklin Gothic Book"/>
                <a:ea typeface="Times New Roman"/>
              </a:rPr>
              <a:t> Edition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9900"/>
                </a:solidFill>
                <a:latin typeface="Franklin Gothic Book"/>
                <a:ea typeface="Times New Roman"/>
              </a:rPr>
              <a:t>Jeffrey A. Hoffer,  V. Ramesh,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9900"/>
                </a:solidFill>
                <a:latin typeface="Franklin Gothic Book"/>
                <a:ea typeface="Times New Roman"/>
              </a:rPr>
              <a:t>Heikki Topi</a:t>
            </a:r>
            <a:r>
              <a:rPr b="0" lang="en-US" sz="2200" spc="-1" strike="noStrike">
                <a:solidFill>
                  <a:srgbClr val="443329"/>
                </a:solidFill>
                <a:latin typeface="Franklin Gothic Book"/>
              </a:rPr>
              <a:t>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Slide Number Placeholder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0F94-C3CB-4B9C-B6C9-6FDE0EF29811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617040" y="336600"/>
            <a:ext cx="78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igure 11-2 Possible locations of data security thre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3" name="Picture 4" descr="Noname.gif"/>
          <p:cNvPicPr/>
          <p:nvPr/>
        </p:nvPicPr>
        <p:blipFill>
          <a:blip r:embed="rId2"/>
          <a:stretch/>
        </p:blipFill>
        <p:spPr>
          <a:xfrm>
            <a:off x="914400" y="990720"/>
            <a:ext cx="7162920" cy="5207040"/>
          </a:xfrm>
          <a:prstGeom prst="rect">
            <a:avLst/>
          </a:prstGeom>
          <a:ln w="0">
            <a:noFill/>
          </a:ln>
        </p:spPr>
      </p:pic>
      <p:sp>
        <p:nvSpPr>
          <p:cNvPr id="434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B110-0145-4A13-A323-6442607EF39E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Text Box 7"/>
          <p:cNvSpPr/>
          <p:nvPr/>
        </p:nvSpPr>
        <p:spPr>
          <a:xfrm>
            <a:off x="446040" y="626256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THREATS TO DATA SECURITY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80520" y="11430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ccidental losses attributable to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Human error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Software failur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Hardware failur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ft and fraud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Loss of privacy or confidentialit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Loss of privacy (personal data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Loss of confidentiality (corporate data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Loss of data integrit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Loss of availability (e.g., through sabotage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7A9F-2CEE-4724-BCF8-DACB73C52124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lide Number Placeholder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67C7-C7FB-4783-A034-05D699C0D8A9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Text Box 5"/>
          <p:cNvSpPr/>
          <p:nvPr/>
        </p:nvSpPr>
        <p:spPr>
          <a:xfrm>
            <a:off x="1501200" y="336600"/>
            <a:ext cx="608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igure 11-3 Establishing Internet 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15E4-EEDC-4BAC-A9C6-1480CD464D42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446040" y="626256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5" name="Picture 7" descr="Noname.jpg"/>
          <p:cNvPicPr/>
          <p:nvPr/>
        </p:nvPicPr>
        <p:blipFill>
          <a:blip r:embed="rId2"/>
          <a:stretch/>
        </p:blipFill>
        <p:spPr>
          <a:xfrm>
            <a:off x="457200" y="1066680"/>
            <a:ext cx="82072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CLIENT – SERVER APPLICATION SECURITY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304920" y="1950840"/>
            <a:ext cx="8686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tatic HTML files are easy to secur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Standard database access control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Place Web files in protected directories on server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ynamic pages are harder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User authenticatio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Session security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SSL for encryptio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Restrict number of users and open port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Remove unnecessary programs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1D37-1757-4471-ACBD-76AFA011ACDC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W3C WEB PRIVACY STANDARD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Platform for Privacy Protection (P3P)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ddresses the following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Who collects data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What data is collected and for what purpos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Who is data shared with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an users control access to their data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How are disputes resolved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Policies for retaining data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Where are policies kept and how can they be accessed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61F7-6FE9-4658-9DD2-B126971488DB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DATABASE SOFTWARE SECURITY FEATURES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Views or subschema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ntegrity control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uthorization rul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User-defined procedur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ncryp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uthentication schem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Backup, journalizing, and checkpointing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10E6-D21B-486A-A89A-5A382829453F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VIEWS AND INTEGRITY CONTROLS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04920" y="1219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View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1440" indent="-2426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ubset of the database that is presented to one or more user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1440" indent="-2426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User can be given access privilege to view without allowing access privilege to underlying tabl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Integrity Control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1440" indent="-2426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Protect data from unauthorized us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1440" indent="-2426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Domains–set allowable valu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1440" indent="-2426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ssertions–enforce database condition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1440" indent="-2426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Triggers – prevent inappropriate actions, invoke special handling procedures, write to log fil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0D91-5297-4AE5-9F49-4847F9C4E200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AUTHORIZATION RULES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380880" y="11430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ontrols incorporated in the data management system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Restrict: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ccess to data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ctions that people can take on data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uthorization matrix for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Subject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Object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ction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onstraint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BAC8-70D0-4FED-993C-324E763FAA74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1" name="Picture 4" descr="Noname.jpg"/>
          <p:cNvPicPr/>
          <p:nvPr/>
        </p:nvPicPr>
        <p:blipFill>
          <a:blip r:embed="rId2"/>
          <a:stretch/>
        </p:blipFill>
        <p:spPr>
          <a:xfrm>
            <a:off x="3571920" y="4191120"/>
            <a:ext cx="5114880" cy="1590480"/>
          </a:xfrm>
          <a:prstGeom prst="rect">
            <a:avLst/>
          </a:prstGeom>
          <a:ln w="0">
            <a:noFill/>
          </a:ln>
        </p:spPr>
      </p:pic>
      <p:sp>
        <p:nvSpPr>
          <p:cNvPr id="462" name="Text Box 3"/>
          <p:cNvSpPr/>
          <p:nvPr/>
        </p:nvSpPr>
        <p:spPr>
          <a:xfrm>
            <a:off x="5076720" y="5715000"/>
            <a:ext cx="36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igure 11-4 Authorization matri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Slide Number Placeholder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2397-9002-4547-A7AB-7C88B497F18A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Text Box 2"/>
          <p:cNvSpPr/>
          <p:nvPr/>
        </p:nvSpPr>
        <p:spPr>
          <a:xfrm>
            <a:off x="5638680" y="4267080"/>
            <a:ext cx="327672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  <a:ea typeface="Tahoma"/>
              </a:rPr>
              <a:t>Some DBMSs also provide capabilities for </a:t>
            </a:r>
            <a:r>
              <a:rPr b="1" i="1" lang="en-US" sz="2400" spc="-1" strike="noStrike">
                <a:solidFill>
                  <a:srgbClr val="990000"/>
                </a:solidFill>
                <a:latin typeface="Tahoma"/>
                <a:ea typeface="Tahoma"/>
              </a:rPr>
              <a:t>user-defined procedures</a:t>
            </a:r>
            <a:r>
              <a:rPr b="0" lang="en-US" sz="2000" spc="-1" strike="noStrike">
                <a:solidFill>
                  <a:srgbClr val="990000"/>
                </a:solidFill>
                <a:latin typeface="Tahoma"/>
                <a:ea typeface="Tahoma"/>
              </a:rPr>
              <a:t> to customize the authorization proce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2520360" y="147600"/>
            <a:ext cx="65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igure 11-5a Authorization table for subjects (salesperson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3228480" y="2052720"/>
            <a:ext cx="57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igure 11-5b Authorization table for objects (order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Text Box 5"/>
          <p:cNvSpPr/>
          <p:nvPr/>
        </p:nvSpPr>
        <p:spPr>
          <a:xfrm>
            <a:off x="309240" y="3819600"/>
            <a:ext cx="324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igure 11-6 Oracle privileg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Text Box 12"/>
          <p:cNvSpPr/>
          <p:nvPr/>
        </p:nvSpPr>
        <p:spPr>
          <a:xfrm>
            <a:off x="592200" y="914400"/>
            <a:ext cx="23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mplementing authorization ru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9" name="Picture 10" descr="Noname.jpg"/>
          <p:cNvPicPr/>
          <p:nvPr/>
        </p:nvPicPr>
        <p:blipFill>
          <a:blip r:embed="rId2"/>
          <a:stretch/>
        </p:blipFill>
        <p:spPr>
          <a:xfrm>
            <a:off x="3505320" y="533520"/>
            <a:ext cx="5248080" cy="15523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1" descr="Noname.jpg"/>
          <p:cNvPicPr/>
          <p:nvPr/>
        </p:nvPicPr>
        <p:blipFill>
          <a:blip r:embed="rId3"/>
          <a:stretch/>
        </p:blipFill>
        <p:spPr>
          <a:xfrm>
            <a:off x="2895480" y="2362320"/>
            <a:ext cx="6019920" cy="1380960"/>
          </a:xfrm>
          <a:prstGeom prst="rect">
            <a:avLst/>
          </a:prstGeom>
          <a:ln w="0">
            <a:noFill/>
          </a:ln>
        </p:spPr>
      </p:pic>
      <p:sp>
        <p:nvSpPr>
          <p:cNvPr id="471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136F-169E-4562-95D8-823D57F1A77F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Text Box 7"/>
          <p:cNvSpPr/>
          <p:nvPr/>
        </p:nvSpPr>
        <p:spPr>
          <a:xfrm>
            <a:off x="446040" y="626256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4" name="Picture 13" descr="Noname.jpg"/>
          <p:cNvPicPr/>
          <p:nvPr/>
        </p:nvPicPr>
        <p:blipFill>
          <a:blip r:embed="rId4"/>
          <a:stretch/>
        </p:blipFill>
        <p:spPr>
          <a:xfrm>
            <a:off x="380880" y="4191120"/>
            <a:ext cx="4903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Slide Number Placeholder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0EBF-EEED-4000-B854-2800C54C987C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6"/>
          <p:cNvSpPr/>
          <p:nvPr/>
        </p:nvSpPr>
        <p:spPr>
          <a:xfrm>
            <a:off x="5943600" y="2209680"/>
            <a:ext cx="2895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00"/>
                </a:solidFill>
                <a:latin typeface="Tahoma"/>
                <a:ea typeface="Tahoma"/>
              </a:rPr>
              <a:t>Encryption</a:t>
            </a:r>
            <a:r>
              <a:rPr b="0" lang="en-US" sz="1800" spc="-1" strike="noStrike">
                <a:solidFill>
                  <a:srgbClr val="990000"/>
                </a:solidFill>
                <a:latin typeface="Tahoma"/>
                <a:ea typeface="Tahoma"/>
              </a:rPr>
              <a:t> – the coding or scrambling of data so that humans cannot read the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ahoma"/>
                <a:ea typeface="Tahoma"/>
              </a:rPr>
              <a:t>Secure Sockets Layer (SSL) is a popular encryption scheme for TCP/IP connection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"/>
          <p:cNvSpPr/>
          <p:nvPr/>
        </p:nvSpPr>
        <p:spPr>
          <a:xfrm>
            <a:off x="1129680" y="122400"/>
            <a:ext cx="45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Figure 11-7 Basic two-key encry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8" name="Picture 5" descr="Noname.jpg"/>
          <p:cNvPicPr/>
          <p:nvPr/>
        </p:nvPicPr>
        <p:blipFill>
          <a:blip r:embed="rId2"/>
          <a:stretch/>
        </p:blipFill>
        <p:spPr>
          <a:xfrm>
            <a:off x="304920" y="533520"/>
            <a:ext cx="5581440" cy="5715000"/>
          </a:xfrm>
          <a:prstGeom prst="rect">
            <a:avLst/>
          </a:prstGeom>
          <a:ln w="0">
            <a:noFill/>
          </a:ln>
        </p:spPr>
      </p:pic>
      <p:sp>
        <p:nvSpPr>
          <p:cNvPr id="479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6B4B-5CA2-492E-88E0-2D18FEDB6524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Text Box 7"/>
          <p:cNvSpPr/>
          <p:nvPr/>
        </p:nvSpPr>
        <p:spPr>
          <a:xfrm>
            <a:off x="446040" y="626256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OBJECTIVES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e3b30"/>
                </a:solidFill>
                <a:latin typeface="Franklin Gothic Book"/>
              </a:rPr>
              <a:t>Define terms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e3b30"/>
                </a:solidFill>
                <a:latin typeface="Franklin Gothic Book"/>
              </a:rPr>
              <a:t>List functions and roles of data/database administration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e3b30"/>
                </a:solidFill>
                <a:latin typeface="Franklin Gothic Book"/>
              </a:rPr>
              <a:t>Describe role of data dictionaries and information repositories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e3b30"/>
                </a:solidFill>
                <a:latin typeface="Franklin Gothic Book"/>
              </a:rPr>
              <a:t>Compare optimistic and pessimistic concurrency control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e3b30"/>
                </a:solidFill>
                <a:latin typeface="Franklin Gothic Book"/>
              </a:rPr>
              <a:t>Describe problems and techniques for data security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e3b30"/>
                </a:solidFill>
                <a:latin typeface="Franklin Gothic Book"/>
              </a:rPr>
              <a:t>Understand role of databases in Sarbanes-Oxley compliance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e3b30"/>
                </a:solidFill>
                <a:latin typeface="Franklin Gothic Book"/>
              </a:rPr>
              <a:t>Describe problems and facilities for data recovery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e3b30"/>
                </a:solidFill>
                <a:latin typeface="Franklin Gothic Book"/>
              </a:rPr>
              <a:t>Describe database tuning issues and list areas where changes can be done to tune the database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e3b30"/>
                </a:solidFill>
                <a:latin typeface="Franklin Gothic Book"/>
              </a:rPr>
              <a:t>Describe importance and measures of data availability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7CA1-0FBD-47BF-917B-04D7C522DB01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AUTHENTICATION SCHEMES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Goal – obtain a </a:t>
            </a:r>
            <a:r>
              <a:rPr b="0" i="1" lang="en-US" sz="3600" spc="-1" strike="noStrike">
                <a:solidFill>
                  <a:srgbClr val="4e3b30"/>
                </a:solidFill>
                <a:latin typeface="Franklin Gothic Book"/>
              </a:rPr>
              <a:t>positive</a:t>
            </a: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 identification of the user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Passwords: First line of defense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hould be at least 8 characters long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hould combine alphabetic and numeric dat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hould not be complete words or personal informa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hould be changed frequentl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4840" indent="-294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9000" indent="-24552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897A-0738-4016-A044-6398ADDF3075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AUTHENTICATION SCHEMES (CONT.)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228240" y="1143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Strong Authentication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asswords are flawed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25560" indent="-1850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Users share them with each other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25560" indent="-1850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hey get written down, could be copied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25560" indent="-1850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utomatic logon scripts remove need to explicitly type them i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25560" indent="-1850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Unencrypted passwords travel the Internet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7560" indent="-27756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Possible solutions: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Two factor–e.g., smart card plus PIN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Three factor–e.g., smart card, biometric, PIN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277560" indent="-27756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E338-84A3-4E17-A032-84F9CAA937EC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5438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SARBANES-OXLEY (SOX)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72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Requires companies to audit the access to sensitive data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Designed to ensure integrity of public companies’ financial statements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SOX audit involves: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23880" indent="-2397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T change managemen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23880" indent="-2397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Logical access to dat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23880" indent="-2397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T operation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1E02-5FCF-4A27-B4AF-BA9E4A9F2D3A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IT CHANGE MANAGEMEN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The process by which changes to operational systems and databases are authorized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For database, changes to: schema, database configuration, updates to DBMS software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Segregation of duties: development, test, production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3764-1D80-4425-9FBB-5E5F3FB23EF8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LOGICAL ACCESS TO DATA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0492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Personnel controls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Hiring practices, employee monitoring, security training, separation of duties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Physical access controls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7056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wipe cards, equipment locking, check-out procedures, screen placement, laptop protec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2249-CF97-44E7-9E12-966B0CFE03B4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IT OPERATIONS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Policies and procedures for day-to-day management of infrastructure, applications, and databases in an organization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For databases: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Backup &amp; recovery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vailability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DBD4-0CFF-446D-8C13-531333BAB16E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DATABASE RECOVERY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901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Mechanism for restoring a database quickly and accurately after loss or damage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294840" indent="-294840">
              <a:spcBef>
                <a:spcPts val="901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Recovery facilities: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9000" indent="-24552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Backup Faciliti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9000" indent="-24552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Journalizing Faciliti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9000" indent="-24552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heckpoint Facilit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9000" indent="-24552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Recovery Manager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1090-3E6C-4607-B3DB-CD4574D7C772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BACK-UP FACILITIES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68580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8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e3b30"/>
                </a:solidFill>
                <a:latin typeface="Franklin Gothic Book"/>
              </a:rPr>
              <a:t>DBMS copy utility that produces backup copy of the entire database or subset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spcBef>
                <a:spcPts val="8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e3b30"/>
                </a:solidFill>
                <a:latin typeface="Franklin Gothic Book"/>
              </a:rPr>
              <a:t>Periodic backup (e.g. nightly, weekly)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spcBef>
                <a:spcPts val="8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e3b30"/>
                </a:solidFill>
                <a:latin typeface="Franklin Gothic Book"/>
              </a:rPr>
              <a:t>Cold backup–database is shut down during backup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spcBef>
                <a:spcPts val="8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e3b30"/>
                </a:solidFill>
                <a:latin typeface="Franklin Gothic Book"/>
              </a:rPr>
              <a:t>Hot backup–selected portion is shut down and backed up at a given time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spcBef>
                <a:spcPts val="8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e3b30"/>
                </a:solidFill>
                <a:latin typeface="Franklin Gothic Book"/>
              </a:rPr>
              <a:t>Backups stored in secure, off-site location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E06F-4D7A-447C-91BA-CE7CA6D21540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JOURNALIZING FACILITIES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udit trail of transactions and database updat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ransaction log–record of essential data for each transaction processed against the databas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atabase change log–images of updated dat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76080" indent="-2599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Before-image–copy before modifica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76080" indent="-2599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fter-image–copy after modifica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14D3-AF0F-4CB3-959B-9CA978572A14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Text Box 4"/>
          <p:cNvSpPr/>
          <p:nvPr/>
        </p:nvSpPr>
        <p:spPr>
          <a:xfrm>
            <a:off x="2480760" y="5705640"/>
            <a:ext cx="40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  <a:ea typeface="Tahoma"/>
              </a:rPr>
              <a:t>Produces an </a:t>
            </a:r>
            <a:r>
              <a:rPr b="1" i="1" lang="en-US" sz="2800" spc="-1" strike="noStrike">
                <a:solidFill>
                  <a:srgbClr val="990000"/>
                </a:solidFill>
                <a:latin typeface="Tahoma"/>
                <a:ea typeface="Tahoma"/>
              </a:rPr>
              <a:t>audit</a:t>
            </a:r>
            <a:r>
              <a:rPr b="1" i="1" lang="en-US" sz="28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1" i="1" lang="en-US" sz="2800" spc="-1" strike="noStrike">
                <a:solidFill>
                  <a:srgbClr val="990000"/>
                </a:solidFill>
                <a:latin typeface="Tahoma"/>
                <a:ea typeface="Tahoma"/>
              </a:rPr>
              <a:t>tr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5" descr="Noname.jpg"/>
          <p:cNvPicPr/>
          <p:nvPr/>
        </p:nvPicPr>
        <p:blipFill>
          <a:blip r:embed="rId2"/>
          <a:stretch/>
        </p:blipFill>
        <p:spPr>
          <a:xfrm>
            <a:off x="762120" y="685800"/>
            <a:ext cx="7672320" cy="5514840"/>
          </a:xfrm>
          <a:prstGeom prst="rect">
            <a:avLst/>
          </a:prstGeom>
          <a:ln w="0">
            <a:noFill/>
          </a:ln>
        </p:spPr>
      </p:pic>
      <p:sp>
        <p:nvSpPr>
          <p:cNvPr id="511" name="Slide Number Placeholder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0479-3071-4D72-8BFF-4E894CA8BA28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Text Box 3"/>
          <p:cNvSpPr/>
          <p:nvPr/>
        </p:nvSpPr>
        <p:spPr>
          <a:xfrm>
            <a:off x="1981080" y="15228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igure 11-8 Database audit tra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3581280" y="4349880"/>
            <a:ext cx="329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  <a:ea typeface="Tahoma"/>
              </a:rPr>
              <a:t>From the backup and logs, databases can be restored in case of damage or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7FBC-4924-47C3-9060-3194A2D1A150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Text Box 7"/>
          <p:cNvSpPr/>
          <p:nvPr/>
        </p:nvSpPr>
        <p:spPr>
          <a:xfrm>
            <a:off x="446040" y="626256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04920" y="184428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Multiple data definitions, causing data integration problems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Missing data elements, causing reduction in data value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Inappropriate data sources and timing, causing lowered reliability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Inadequate familiarity, causing ineffective use of data for planning and strategy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Poor response time and excessive downtime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Damaged, sabotaged, and stolen data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Unauthorized access, leading to embarrassment to organization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Slide Number Placeholder 2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A0D6-D4C0-46B5-881A-4AD2874A638D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INEFFECTIVE DATA ADMINISTRATION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POOR DATA QUALITY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CHECKPOINT FACILITIES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380880" y="17521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DBMS periodically refuses to accept new transactions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Wingdings"/>
                <a:ea typeface="Wingdings"/>
              </a:rPr>
              <a:t></a:t>
            </a: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system is in a </a:t>
            </a:r>
            <a:r>
              <a:rPr b="0" i="1" lang="en-US" sz="3600" spc="-1" strike="noStrike">
                <a:solidFill>
                  <a:srgbClr val="4e3b30"/>
                </a:solidFill>
                <a:latin typeface="Franklin Gothic Book"/>
              </a:rPr>
              <a:t>quiet</a:t>
            </a: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 state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Database and transaction logs are synchronized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C709-96CC-46FC-8452-B1F45E1F301E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Text Box 4"/>
          <p:cNvSpPr/>
          <p:nvPr/>
        </p:nvSpPr>
        <p:spPr>
          <a:xfrm>
            <a:off x="457200" y="512136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ahoma"/>
                <a:ea typeface="Tahoma"/>
              </a:rPr>
              <a:t>This allows recovery manager to resume processing from short period, instead of repeating entire d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6197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RECOVERY AND RESTART PROCEDURES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isk Mirroring–switch between identical copies of databas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Restore/Rerun–reprocess transactions against the backup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ransaction Integrity–commit or abort all transaction chang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Backward Recovery (Rollback)–apply before imag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rward Recovery (Roll Forward)–apply after images (preferable to restore/rerun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3353-FE96-4236-97E0-B7A2FBB08B9F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TRANSACTION </a:t>
            </a:r>
            <a:r>
              <a:rPr b="0" lang="en-US" sz="4800" spc="-1" strike="noStrike">
                <a:solidFill>
                  <a:srgbClr val="000000"/>
                </a:solidFill>
                <a:latin typeface="Franklin Gothic Medium"/>
              </a:rPr>
              <a:t>ACID</a:t>
            </a: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 PROPERTIES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5720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Atomic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76080" indent="-25992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ransaction cannot be subdivided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Consistent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76080" indent="-25992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onstraints don’t change from before transaction to after transac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Isolated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76080" indent="-25992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atabase changes not revealed to users until after transaction has completed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Durable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76080" indent="-25992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atabase changes are permanen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B6B5-30E0-4316-90AF-8ABC49D1A745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Slide Number Placeholder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2A34-8D41-4225-A0C0-09FF3F338F45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Text Box 3"/>
          <p:cNvSpPr/>
          <p:nvPr/>
        </p:nvSpPr>
        <p:spPr>
          <a:xfrm>
            <a:off x="1590120" y="262080"/>
            <a:ext cx="558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igure 11-9 Basic recovery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) Roll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9" name="Picture 4" descr="Noname.jpg"/>
          <p:cNvPicPr/>
          <p:nvPr/>
        </p:nvPicPr>
        <p:blipFill>
          <a:blip r:embed="rId2"/>
          <a:stretch/>
        </p:blipFill>
        <p:spPr>
          <a:xfrm>
            <a:off x="247680" y="1405080"/>
            <a:ext cx="8591400" cy="4081320"/>
          </a:xfrm>
          <a:prstGeom prst="rect">
            <a:avLst/>
          </a:prstGeom>
          <a:ln w="0">
            <a:noFill/>
          </a:ln>
        </p:spPr>
      </p:pic>
      <p:sp>
        <p:nvSpPr>
          <p:cNvPr id="530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A506-5A54-414A-9662-9FDE0CCE535B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Text Box 7"/>
          <p:cNvSpPr/>
          <p:nvPr/>
        </p:nvSpPr>
        <p:spPr>
          <a:xfrm>
            <a:off x="446040" y="626256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Slide Number Placeholder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6012-BDBC-4719-99F6-A778B6A882A7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1378800" y="69840"/>
            <a:ext cx="656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igure 11-9 Basic recovery techniques (cont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b) Roll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5" name="Picture 4" descr="Noname.jpg"/>
          <p:cNvPicPr/>
          <p:nvPr/>
        </p:nvPicPr>
        <p:blipFill>
          <a:blip r:embed="rId2"/>
          <a:stretch/>
        </p:blipFill>
        <p:spPr>
          <a:xfrm>
            <a:off x="266760" y="1390680"/>
            <a:ext cx="8648640" cy="4248000"/>
          </a:xfrm>
          <a:prstGeom prst="rect">
            <a:avLst/>
          </a:prstGeom>
          <a:ln w="0">
            <a:noFill/>
          </a:ln>
        </p:spPr>
      </p:pic>
      <p:sp>
        <p:nvSpPr>
          <p:cNvPr id="536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7264-5762-4C82-9B13-5A9586C9BB23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Text Box 7"/>
          <p:cNvSpPr/>
          <p:nvPr/>
        </p:nvSpPr>
        <p:spPr>
          <a:xfrm>
            <a:off x="446040" y="626256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1B02-1A52-4A64-BD2C-B925DA1CD68A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0" name="Picture 6" descr="Noname.gif"/>
          <p:cNvPicPr/>
          <p:nvPr/>
        </p:nvPicPr>
        <p:blipFill>
          <a:blip r:embed="rId2"/>
          <a:stretch/>
        </p:blipFill>
        <p:spPr>
          <a:xfrm>
            <a:off x="0" y="717480"/>
            <a:ext cx="914400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CONTROL CONCURRENT ACCESS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e3b30"/>
                </a:solidFill>
                <a:latin typeface="Franklin Gothic Book"/>
              </a:rPr>
              <a:t>Problem</a:t>
            </a: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–in a multi-user environment, simultaneous access to data can result in interference and data loss (lost update problem)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281160" indent="-28116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e3b30"/>
                </a:solidFill>
                <a:latin typeface="Franklin Gothic Book"/>
              </a:rPr>
              <a:t>Solution</a:t>
            </a: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–</a:t>
            </a:r>
            <a:r>
              <a:rPr b="1" lang="en-US" sz="3600" spc="-1" strike="noStrike">
                <a:solidFill>
                  <a:srgbClr val="990000"/>
                </a:solidFill>
                <a:latin typeface="Franklin Gothic Book"/>
              </a:rPr>
              <a:t>Concurrency Control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9120" indent="-2343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process of managing simultaneous operations against a database so that data integrity is maintained and the operations do not interfere with each other in a multi-user environmen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D00B-FB95-47CC-8780-4D7AC6A1E6E2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Slide Number Placeholder 2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FF41-8380-4C0E-921F-EF82529EE029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Text Box 6"/>
          <p:cNvSpPr/>
          <p:nvPr/>
        </p:nvSpPr>
        <p:spPr>
          <a:xfrm>
            <a:off x="377280" y="609480"/>
            <a:ext cx="86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igure 11-10  Lost update (no concurrency control in effec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Text Box 7"/>
          <p:cNvSpPr/>
          <p:nvPr/>
        </p:nvSpPr>
        <p:spPr>
          <a:xfrm>
            <a:off x="473400" y="5402160"/>
            <a:ext cx="84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  <a:ea typeface="Tahoma"/>
              </a:rPr>
              <a:t>Simultaneous access causes updates to cancel each o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Text Box 8"/>
          <p:cNvSpPr/>
          <p:nvPr/>
        </p:nvSpPr>
        <p:spPr>
          <a:xfrm>
            <a:off x="703440" y="5783400"/>
            <a:ext cx="76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  <a:ea typeface="Tahoma"/>
              </a:rPr>
              <a:t>A similar problem is the </a:t>
            </a:r>
            <a:r>
              <a:rPr b="1" lang="en-US" sz="2400" spc="-1" strike="noStrike">
                <a:solidFill>
                  <a:srgbClr val="990000"/>
                </a:solidFill>
                <a:latin typeface="Tahoma"/>
                <a:ea typeface="Tahoma"/>
              </a:rPr>
              <a:t>inconsistent read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  <a:ea typeface="Tahoma"/>
              </a:rPr>
              <a:t>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8" name="Picture 6" descr="Noname.jpg"/>
          <p:cNvPicPr/>
          <p:nvPr/>
        </p:nvPicPr>
        <p:blipFill>
          <a:blip r:embed="rId2"/>
          <a:stretch/>
        </p:blipFill>
        <p:spPr>
          <a:xfrm>
            <a:off x="2209680" y="1143000"/>
            <a:ext cx="523404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ONCURRENCY CONTROL TECHNIQUES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rializabilit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Finish one transaction before starting another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Locking Mechanisms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he most  common way of achieving serializatio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ata that is retrieved for the purpose of updating is locked for the updater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No other user can perform update until unlocked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56D0-931A-4D58-9498-CC13D9FF6DA1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E275-2B66-404E-B55B-50606463847C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Text Box 2"/>
          <p:cNvSpPr/>
          <p:nvPr/>
        </p:nvSpPr>
        <p:spPr>
          <a:xfrm>
            <a:off x="585360" y="14436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igure 11-11: Updates with locking (concurrency contro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618920" y="5791320"/>
            <a:ext cx="59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ahoma"/>
                <a:ea typeface="Tahoma"/>
              </a:rPr>
              <a:t>This prevents the lost update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5" name="Picture 5" descr="Noname.jpg"/>
          <p:cNvPicPr/>
          <p:nvPr/>
        </p:nvPicPr>
        <p:blipFill>
          <a:blip r:embed="rId2"/>
          <a:stretch/>
        </p:blipFill>
        <p:spPr>
          <a:xfrm>
            <a:off x="2057400" y="685800"/>
            <a:ext cx="5181480" cy="5105520"/>
          </a:xfrm>
          <a:prstGeom prst="rect">
            <a:avLst/>
          </a:prstGeom>
          <a:ln w="0">
            <a:noFill/>
          </a:ln>
        </p:spPr>
      </p:pic>
      <p:sp>
        <p:nvSpPr>
          <p:cNvPr id="556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9735-DA0C-499A-8CBC-41C0784AFF0E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Text Box 7"/>
          <p:cNvSpPr/>
          <p:nvPr/>
        </p:nvSpPr>
        <p:spPr>
          <a:xfrm>
            <a:off x="446040" y="626256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TRADITIONAL ADMINISTRATION DEFINITIONS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04920" y="16765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Franklin Gothic Book"/>
              </a:rPr>
              <a:t>Data Administration</a:t>
            </a: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: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A high-level function that is responsible for the overall management of data resources in an organization, including maintaining corporate-wide definitions and standard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Franklin Gothic Book"/>
              </a:rPr>
              <a:t>Database Administration</a:t>
            </a: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: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A technical function that is responsible for physical database design and for dealing with technical issues such as security enforcement, database performance, and backup and recover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442B-F9FD-47A8-9B38-A7EAF284B171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LOCKING MECHANISMS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68580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Locking level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Database–used during database updat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Table–used for bulk updat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Block or page–very commonly used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Record–only requested row; fairly commonly used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Field–requires significant overhead; impractica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ypes of locks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hared lock–Read but no update permitted.  Used when just reading to prevent another user from placing an exclusive lock on the record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Exclusive lock–No access permitted.  Used when preparing to updat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643C-2589-483C-9F57-D4AAEB8E4367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DEADLOCK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838080" y="1066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n impasse that results when two or more transactions have locked common resources, and each waits for the other to unlock their resourc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3D5D-91BD-4A8E-8E2B-F3F16D4FCB02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-98640" y="2506680"/>
            <a:ext cx="375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igure 11-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he problem of dead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Text Box 5"/>
          <p:cNvSpPr/>
          <p:nvPr/>
        </p:nvSpPr>
        <p:spPr>
          <a:xfrm>
            <a:off x="76320" y="3794040"/>
            <a:ext cx="3429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Tahoma"/>
                <a:ea typeface="Tahoma"/>
              </a:rPr>
              <a:t>John and Marsha will wait forever for each other to release their locked resourc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7" name="Picture 7" descr="Noname.jpg"/>
          <p:cNvPicPr/>
          <p:nvPr/>
        </p:nvPicPr>
        <p:blipFill>
          <a:blip r:embed="rId2"/>
          <a:stretch/>
        </p:blipFill>
        <p:spPr>
          <a:xfrm>
            <a:off x="3581280" y="2286000"/>
            <a:ext cx="52009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MANAGING DEADLOCK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049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eadlock prevention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572040" indent="-21996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e3b30"/>
                </a:solidFill>
                <a:latin typeface="Franklin Gothic Book"/>
              </a:rPr>
              <a:t>Lock all records required at the beginning of a transaction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572040" indent="-21996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e3b30"/>
                </a:solidFill>
                <a:latin typeface="Franklin Gothic Book"/>
              </a:rPr>
              <a:t>Two-phase locking protocol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879840" indent="-175680">
              <a:lnSpc>
                <a:spcPct val="90000"/>
              </a:lnSpc>
              <a:spcBef>
                <a:spcPts val="575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e3b30"/>
                </a:solidFill>
                <a:latin typeface="Franklin Gothic Book"/>
              </a:rPr>
              <a:t>Growing phase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879840" indent="-175680">
              <a:lnSpc>
                <a:spcPct val="90000"/>
              </a:lnSpc>
              <a:spcBef>
                <a:spcPts val="575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e3b30"/>
                </a:solidFill>
                <a:latin typeface="Franklin Gothic Book"/>
              </a:rPr>
              <a:t>Shrinking phase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572040" indent="-21996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e3b30"/>
                </a:solidFill>
                <a:latin typeface="Franklin Gothic Book"/>
              </a:rPr>
              <a:t>May be difficult to determine all needed resources in advance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eadlock Resolution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572040" indent="-21996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e3b30"/>
                </a:solidFill>
                <a:latin typeface="Franklin Gothic Book"/>
              </a:rPr>
              <a:t>Allow deadlocks to occur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572040" indent="-21996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e3b30"/>
                </a:solidFill>
                <a:latin typeface="Franklin Gothic Book"/>
              </a:rPr>
              <a:t>Mechanisms for detecting and breaking them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879840" indent="-1756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Resource usage matrix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6CAF-733B-4E30-BB46-588859AFBE23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VERSIONING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609120" y="13716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Optimistic approach to concurrency contro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nstead of locking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ssumption is that simultaneous updates will be infrequen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ach transaction can attempt an update as it wish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system will reject an update when it senses a conflic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Use of rollback and commit for thi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E8F5-03D6-49AB-B3A3-295E88C18152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5" descr="Noname.jpg"/>
          <p:cNvPicPr/>
          <p:nvPr/>
        </p:nvPicPr>
        <p:blipFill>
          <a:blip r:embed="rId2"/>
          <a:stretch/>
        </p:blipFill>
        <p:spPr>
          <a:xfrm>
            <a:off x="1300320" y="792000"/>
            <a:ext cx="6548400" cy="5177160"/>
          </a:xfrm>
          <a:prstGeom prst="rect">
            <a:avLst/>
          </a:prstGeom>
          <a:ln w="0">
            <a:noFill/>
          </a:ln>
        </p:spPr>
      </p:pic>
      <p:sp>
        <p:nvSpPr>
          <p:cNvPr id="575" name="Slide Number Placeholder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491C-2272-4415-98BC-EE73525A06BF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Text Box 3"/>
          <p:cNvSpPr/>
          <p:nvPr/>
        </p:nvSpPr>
        <p:spPr>
          <a:xfrm>
            <a:off x="2113560" y="297000"/>
            <a:ext cx="51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igure 11-14 The use of versio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Text Box 4"/>
          <p:cNvSpPr/>
          <p:nvPr/>
        </p:nvSpPr>
        <p:spPr>
          <a:xfrm>
            <a:off x="2175840" y="5554800"/>
            <a:ext cx="48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  <a:ea typeface="Tahoma"/>
              </a:rPr>
              <a:t>Better performance than 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FFB3-0590-47E5-AA85-05FCDFF4A727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Text Box 7"/>
          <p:cNvSpPr/>
          <p:nvPr/>
        </p:nvSpPr>
        <p:spPr>
          <a:xfrm>
            <a:off x="446040" y="626256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DATA DICTIONARIES AND REPOSITORIES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151920" y="16765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ata dictionar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Documents data elements of a databas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ystem catalog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ystem-created database that describes all database object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nformation Repositor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tores metadata describing data and data processing resourc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nformation Repository Dictionary System (IRDS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oftware tool managing/controlling access to information repository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413B-6430-474E-92D0-390EFB9A9B95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11" descr="Noname.jpg"/>
          <p:cNvPicPr/>
          <p:nvPr/>
        </p:nvPicPr>
        <p:blipFill>
          <a:blip r:embed="rId2"/>
          <a:stretch/>
        </p:blipFill>
        <p:spPr>
          <a:xfrm>
            <a:off x="1371600" y="966960"/>
            <a:ext cx="6934320" cy="5333760"/>
          </a:xfrm>
          <a:prstGeom prst="rect">
            <a:avLst/>
          </a:prstGeom>
          <a:ln w="0">
            <a:noFill/>
          </a:ln>
        </p:spPr>
      </p:pic>
      <p:sp>
        <p:nvSpPr>
          <p:cNvPr id="585" name="Slide Number Placeholder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04FD-1D18-443F-ACF2-AC5302F1C9AC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Text Box 3"/>
          <p:cNvSpPr/>
          <p:nvPr/>
        </p:nvSpPr>
        <p:spPr>
          <a:xfrm>
            <a:off x="838080" y="1602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igure 11-15 Three components of the repository system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Text Box 4"/>
          <p:cNvSpPr/>
          <p:nvPr/>
        </p:nvSpPr>
        <p:spPr>
          <a:xfrm>
            <a:off x="5562720" y="1065240"/>
            <a:ext cx="230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ahoma"/>
                <a:ea typeface="Tahoma"/>
              </a:rPr>
              <a:t>A schema of the repository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Text Box 5"/>
          <p:cNvSpPr/>
          <p:nvPr/>
        </p:nvSpPr>
        <p:spPr>
          <a:xfrm>
            <a:off x="7162920" y="2590920"/>
            <a:ext cx="129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ahoma"/>
                <a:ea typeface="Tahoma"/>
              </a:rPr>
              <a:t>Software that manages the repository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Text Box 6"/>
          <p:cNvSpPr/>
          <p:nvPr/>
        </p:nvSpPr>
        <p:spPr>
          <a:xfrm>
            <a:off x="5486400" y="53020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ahoma"/>
                <a:ea typeface="Tahoma"/>
              </a:rPr>
              <a:t>Where repository objects are stor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Text Box 7"/>
          <p:cNvSpPr/>
          <p:nvPr/>
        </p:nvSpPr>
        <p:spPr>
          <a:xfrm>
            <a:off x="1447920" y="598968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Source</a:t>
            </a: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: based on Bernstein, 1996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89EE-C73D-4194-BDA8-FEEE3890C6F7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Text Box 7"/>
          <p:cNvSpPr/>
          <p:nvPr/>
        </p:nvSpPr>
        <p:spPr>
          <a:xfrm>
            <a:off x="446040" y="626256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DATABASE PERFORMANCE TUNING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BMS Installatio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etting installation parameter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Memory and Storage Space Usage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et cache level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hoose background process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Data archiving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Input/output (I/O) Contentio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Use striping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Distribution of heavily accessed fil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PU Usage – 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Monitor CPU load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pplication tuning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Modification of SQL code in application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Use of heartbeat queri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006D-8076-4F50-92DD-E0CE03E5408C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COST OF DOWNTIME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650F-AF0E-48E0-AB27-79A29E6332A6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Rectangle 7"/>
          <p:cNvSpPr/>
          <p:nvPr/>
        </p:nvSpPr>
        <p:spPr>
          <a:xfrm>
            <a:off x="2362320" y="55627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Downtime is exp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0" name="Picture 6" descr="Noname.jpg"/>
          <p:cNvPicPr/>
          <p:nvPr/>
        </p:nvPicPr>
        <p:blipFill>
          <a:blip r:embed="rId2"/>
          <a:stretch/>
        </p:blipFill>
        <p:spPr>
          <a:xfrm>
            <a:off x="304920" y="1295280"/>
            <a:ext cx="5016240" cy="289584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6" descr="Noname.gif"/>
          <p:cNvPicPr/>
          <p:nvPr/>
        </p:nvPicPr>
        <p:blipFill>
          <a:blip r:embed="rId3"/>
          <a:stretch/>
        </p:blipFill>
        <p:spPr>
          <a:xfrm>
            <a:off x="4038480" y="2320920"/>
            <a:ext cx="464832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DATA AVAILABILITY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304560" y="12193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How to ensure availabilit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Hardware failures–provide redundancy for fault toleranc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Loss of data–database mirroring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Human error–standard operating procedures, training, documentatio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Maintenance downtime–automated and non-disruptive maintenance utilitie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Network problems–careful traffic monitoring, firewalls, and router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EDFC-9B1D-4623-A79F-29FB8F37A839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TRADITIONAL DATA ADMINISTRATION FUNCTIONS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04920" y="1874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Data policies, procedures, standards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Planning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Data conflict (ownership) resolution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Managing the information repository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Internal marketing of DA concepts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AC17-70E8-45EA-9CDE-433E08562688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5537-9FC6-44EC-898A-4143EEF1C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6" name="Picture 4" descr="cid:3287383400_2177562"/>
          <p:cNvPicPr/>
          <p:nvPr/>
        </p:nvPicPr>
        <p:blipFill>
          <a:blip r:embed="rId2"/>
          <a:stretch/>
        </p:blipFill>
        <p:spPr>
          <a:xfrm>
            <a:off x="343080" y="971640"/>
            <a:ext cx="8422920" cy="2747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07" name="Rectangle 5"/>
          <p:cNvSpPr/>
          <p:nvPr/>
        </p:nvSpPr>
        <p:spPr>
          <a:xfrm>
            <a:off x="738360" y="5327640"/>
            <a:ext cx="78451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right 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TRADITIONAL DATABASE ADMINISTRATION FUNCTIONS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nalyzing and designing databas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lecting DBMS and software tool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nstalling/upgrading DBM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uning database performanc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mproving query processing performanc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anaging data security, privacy, and integrit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ata backup and recover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FD79-2214-4A8B-8D37-85189B804E81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DATA WAREHOUSE ADMINISTRATION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New role, coming with growth in data warehous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milar to DA/DBA rol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mphasis on integration and coordination of metadata/data across many data sourc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pecific roles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Support decision support application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Manage data warehouse growth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Establish service level agreements regarding data warehouses and data mart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91EF-E0B0-41B7-BD07-459252190E89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OPEN SOURCE DB MANAGEMEN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8088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n alternative to proprietary packages such as Oracle, Microsoft SQL Server, or Microsoft Acces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MySQL is an example of an open-source DBM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Less expensive than proprietary package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Source code available, for modificatio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bsence of complete documentatio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mbiguous licensing concern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Not as feature-rich as proprietary DBMS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Vendors may not have certification program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64EF-A34E-440F-AD7E-18F4A6FC47EC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DATA SECURITY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0492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Franklin Gothic Book"/>
              </a:rPr>
              <a:t>Database Security:</a:t>
            </a: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 Protection of the data against accidental or intentional loss, destruction, or misuse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Increased difficulty due to Internet access and client/server technologies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E629-E3AF-4987-8B17-4433655B88FC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9T10:00:26Z</dcterms:created>
  <dc:creator>Michel Mitri</dc:creator>
  <dc:description/>
  <cp:keywords/>
  <dc:language>en-US</dc:language>
  <cp:lastModifiedBy>ULOFTKE</cp:lastModifiedBy>
  <cp:lastPrinted>1998-01-19T09:29:56Z</cp:lastPrinted>
  <dcterms:modified xsi:type="dcterms:W3CDTF">2012-07-31T15:34:50Z</dcterms:modified>
  <cp:revision>587</cp:revision>
  <dc:subject/>
  <dc:title> Data and Database Administration</dc:title>
</cp:coreProperties>
</file>